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030-B98B-4002-89F4-8E0B02EE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15AB-9969-4420-8C63-7E6716D9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s.miamioh.edu/~wilsonkg/old/gene2005/chloroplast%20genetic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8AA9-A11B-4FD9-BB56-E25A6CA4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thechelseascrolls.com/tag/chloropla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6E6-EB18-49B7-A4DC-68EFF594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jordifferences.com/2014/04/difference-between-spermatogenesis-and.html#.VT7rqhzsT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F2B9-92BD-4029-81CE-44A763AB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tifolio.com/911119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7EF-5A7B-498F-91B9-B180D5BD7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osta from: http://www.cas.miamioh.edu/~wilsonkg/old/gene2005/chloroplast%20genetic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BA42-46EA-424E-9A39-968AB246C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esophiestory.co.uk/medical/symptoms-of-mitochondrial-diseas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B365-79B2-4DC1-807C-C8EF016F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 from: http://www.bbc.com/news/health-310691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s://www.thestar.com/news/world/2016/09/27/baby-born-using-three-parent-genetic-engineer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37B-DC66-4ACC-869B-F5AD0373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880-64EC-4471-9AFD-E27216CA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red.com/2010/01/green-sea-slu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a slug consumes algae when young &amp; keeps the chloroplasts in cert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izontal gene transfer - there are also algae genes (from algae nuclei) in the slug nuclea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E93-69A2-49FD-8C94-D369FA38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5BE-C4D9-4197-8EE7-8FD5DA46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20D-AD34-45FB-8D33-CC064BBF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CCF-0465-4857-B456-6871A1D5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614-60C8-4A90-B1AC-5B8BB7B9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324-6AB8-468D-AA52-D0164CF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2BE-192A-4A5F-AC7B-87FB76E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0B6-9925-4045-9E3E-0E3FC1F2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8BB-AEFB-42D9-8470-D056119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F84-4301-4553-BA6B-D91829A6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768-D2DF-4960-83E8-694E5F7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619-A52E-443C-880F-45B65CE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6212-5247-4706-B83A-3F2C5E80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chondria &amp; 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2" descr="mito-and-chloro.jpg"/>
          <p:cNvPicPr/>
          <p:nvPr/>
        </p:nvPicPr>
        <p:blipFill>
          <a:blip r:embed="rId1"/>
          <a:srcRect l="0" t="-20899" r="0" b="-20899"/>
          <a:stretch/>
        </p:blipFill>
        <p:spPr>
          <a:xfrm>
            <a:off x="0" y="1989000"/>
            <a:ext cx="9144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ogenesis and spermatogenesis[9]"/>
          <p:cNvPicPr/>
          <p:nvPr/>
        </p:nvPicPr>
        <p:blipFill>
          <a:blip r:embed="rId1"/>
          <a:stretch/>
        </p:blipFill>
        <p:spPr>
          <a:xfrm>
            <a:off x="1306440" y="228600"/>
            <a:ext cx="6529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nal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Fertilization-9111192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OSWEET"/>
          <p:cNvPicPr/>
          <p:nvPr/>
        </p:nvPicPr>
        <p:blipFill>
          <a:blip r:embed="rId1"/>
          <a:stretch/>
        </p:blipFill>
        <p:spPr>
          <a:xfrm>
            <a:off x="2027160" y="1981080"/>
            <a:ext cx="508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l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itochondrial-symptoms"/>
          <p:cNvPicPr/>
          <p:nvPr/>
        </p:nvPicPr>
        <p:blipFill>
          <a:blip r:embed="rId1"/>
          <a:stretch/>
        </p:blipFill>
        <p:spPr>
          <a:xfrm>
            <a:off x="1909800" y="1752480"/>
            <a:ext cx="5398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gg Sw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icture 1"/>
          <p:cNvPicPr/>
          <p:nvPr/>
        </p:nvPicPr>
        <p:blipFill>
          <a:blip r:embed="rId1"/>
          <a:stretch/>
        </p:blipFill>
        <p:spPr>
          <a:xfrm>
            <a:off x="1068480" y="1981080"/>
            <a:ext cx="700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6" descr="Screen Shot 2016-10-10 at 11.01.54 PM.png"/>
          <p:cNvPicPr/>
          <p:nvPr/>
        </p:nvPicPr>
        <p:blipFill>
          <a:blip r:embed="rId1"/>
          <a:srcRect l="-8021" t="0" r="-8021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lysia chloro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reen_sea_slug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01:45:10Z</dcterms:created>
  <dc:creator>rubina khan</dc:creator>
  <dc:description/>
  <dc:language>en-US</dc:language>
  <cp:lastModifiedBy>rubina khan</cp:lastModifiedBy>
  <dcterms:modified xsi:type="dcterms:W3CDTF">2018-05-10T17:46:32Z</dcterms:modified>
  <cp:revision>22</cp:revision>
  <dc:subject/>
  <dc:title>Cytoplasmic Inheritance</dc:title>
</cp:coreProperties>
</file>